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70B7-9AF5-4247-A8B1-1B0B57A13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EFDB-2B1E-4473-8B8F-21CEF2CA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AEB1-220E-4338-BA06-6FA6454A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5D51-7BC1-48B0-BB78-41AB4B7DC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45BC-B9BD-4F38-8CB3-E9F3E55E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A60D-8F8B-4802-A8B6-46CF04E4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40BD-336D-409A-A3C6-C757D698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E083-73FA-45ED-A781-C41DD6B3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9BBA-A0E0-4490-B01B-9D36C320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AB23-4D0F-4C24-8B5B-6F4B3823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16C5-5289-4E9C-9623-0C24A67E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B733-0200-4CEA-8F66-ED2BA6E2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278B-0365-4B36-9225-6217E67E39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357280" y="500040"/>
            <a:ext cx="642960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Теорема Пифагора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простота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                                                                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красот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значимост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6000840" y="4572000"/>
            <a:ext cx="2466720" cy="1843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-1014" descr=""/>
          <p:cNvPicPr/>
          <p:nvPr/>
        </p:nvPicPr>
        <p:blipFill>
          <a:blip r:embed="rId2"/>
          <a:stretch/>
        </p:blipFill>
        <p:spPr>
          <a:xfrm>
            <a:off x="2500200" y="2857680"/>
            <a:ext cx="1500480" cy="2263680"/>
          </a:xfrm>
          <a:prstGeom prst="rect">
            <a:avLst/>
          </a:prstGeom>
          <a:ln w="0">
            <a:noFill/>
          </a:ln>
        </p:spPr>
      </p:pic>
      <p:sp>
        <p:nvSpPr>
          <p:cNvPr id="44" name="Горизонтальный свиток 10"/>
          <p:cNvSpPr/>
          <p:nvPr/>
        </p:nvSpPr>
        <p:spPr>
          <a:xfrm>
            <a:off x="5000760" y="1571760"/>
            <a:ext cx="3500280" cy="2428920"/>
          </a:xfrm>
          <a:prstGeom prst="horizontalScroll">
            <a:avLst>
              <a:gd name="adj" fmla="val 12500"/>
            </a:avLst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72080" y="207180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Calibri"/>
              </a:rPr>
              <a:t>«Геометрия владеет</a:t>
            </a:r>
            <a:br>
              <a:rPr sz="1800"/>
            </a:br>
            <a:r>
              <a:rPr b="1" lang="ru-RU" sz="1800" spc="-1" strike="noStrike">
                <a:solidFill>
                  <a:srgbClr val="953735"/>
                </a:solidFill>
                <a:latin typeface="Calibri"/>
              </a:rPr>
              <a:t>двумя сокровищами:</a:t>
            </a:r>
            <a:br>
              <a:rPr sz="1800"/>
            </a:br>
            <a:r>
              <a:rPr b="1" lang="ru-RU" sz="1800" spc="-1" strike="noStrike">
                <a:solidFill>
                  <a:srgbClr val="953735"/>
                </a:solidFill>
                <a:latin typeface="Calibri"/>
              </a:rPr>
              <a:t>одно из них – это</a:t>
            </a:r>
            <a:br>
              <a:rPr sz="1800"/>
            </a:br>
            <a:r>
              <a:rPr b="1" lang="ru-RU" sz="1800" spc="-1" strike="noStrike">
                <a:solidFill>
                  <a:srgbClr val="953735"/>
                </a:solidFill>
                <a:latin typeface="Calibri"/>
              </a:rPr>
              <a:t>теорема Пифагор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2"/>
          <p:cNvSpPr/>
          <p:nvPr/>
        </p:nvSpPr>
        <p:spPr>
          <a:xfrm>
            <a:off x="6786720" y="32860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46c0a"/>
                </a:solidFill>
                <a:latin typeface="Calibri"/>
              </a:rPr>
              <a:t>Иоганн Кепл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3"/>
          <p:cNvSpPr/>
          <p:nvPr/>
        </p:nvSpPr>
        <p:spPr>
          <a:xfrm>
            <a:off x="142920" y="500040"/>
            <a:ext cx="2214360" cy="6066360"/>
          </a:xfrm>
          <a:prstGeom prst="rect">
            <a:avLst/>
          </a:prstGeom>
          <a:noFill/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46c0a"/>
                </a:solidFill>
                <a:latin typeface="Calibri"/>
              </a:rPr>
              <a:t>Да, путь позна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46c0a"/>
                </a:solidFill>
                <a:latin typeface="Calibri"/>
              </a:rPr>
              <a:t>не гладок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46c0a"/>
                </a:solidFill>
                <a:latin typeface="Calibri"/>
              </a:rPr>
              <a:t>Но знаем м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46c0a"/>
                </a:solidFill>
                <a:latin typeface="Calibri"/>
              </a:rPr>
              <a:t>со школьных лет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46c0a"/>
                </a:solidFill>
                <a:latin typeface="Calibri"/>
              </a:rPr>
              <a:t>Загадок больш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46c0a"/>
                </a:solidFill>
                <a:latin typeface="Calibri"/>
              </a:rPr>
              <a:t>чем разгадок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46c0a"/>
                </a:solidFill>
                <a:latin typeface="Calibri"/>
              </a:rPr>
              <a:t>И поискам предела нет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-1023" descr="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6"/>
          <p:cNvSpPr/>
          <p:nvPr/>
        </p:nvSpPr>
        <p:spPr>
          <a:xfrm>
            <a:off x="4414680" y="428760"/>
            <a:ext cx="250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Может ли строитель</a:t>
            </a:r>
            <a:br>
              <a:rPr sz="1800"/>
            </a:b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обойтись без</a:t>
            </a:r>
            <a:br>
              <a:rPr sz="1800"/>
            </a:b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теоремы Пифагор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6129360" y="1357200"/>
            <a:ext cx="3000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Как теорема Пифагора</a:t>
            </a:r>
            <a:br>
              <a:rPr sz="1800"/>
            </a:b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помогала людям «измерять»</a:t>
            </a:r>
            <a:br>
              <a:rPr sz="1800"/>
            </a:b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расстояние между</a:t>
            </a:r>
            <a:br>
              <a:rPr sz="1800"/>
            </a:b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космическими кораблям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6200640" y="3214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Зачем нужна Теорема Пифагор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771480" y="335772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Почему быки «боятся» теорему Пифагор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1914480" y="1500120"/>
            <a:ext cx="2714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Почему доказательство</a:t>
            </a:r>
            <a:br>
              <a:rPr sz="1800"/>
            </a:b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теоремы Пифагора</a:t>
            </a:r>
            <a:br>
              <a:rPr sz="1800"/>
            </a:b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называли</a:t>
            </a:r>
            <a:br>
              <a:rPr sz="1800"/>
            </a:b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«ослиным мостом»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214200" y="5522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Пребудет вечной истин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как скоро ее познает слабый человек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И ныне теорема Пифагора верна, как и в его далекий ве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                                     </a:t>
            </a:r>
            <a:r>
              <a:rPr b="1" i="1" lang="ru-RU" sz="2000" spc="-1" strike="noStrike">
                <a:solidFill>
                  <a:srgbClr val="984807"/>
                </a:solidFill>
                <a:latin typeface="Calibri"/>
              </a:rPr>
              <a:t>Шамисс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-10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8"/>
          <p:cNvSpPr/>
          <p:nvPr/>
        </p:nvSpPr>
        <p:spPr>
          <a:xfrm>
            <a:off x="1143000" y="2214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Какова история</a:t>
            </a:r>
            <a:br>
              <a:rPr sz="1800"/>
            </a:b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создания теоремы</a:t>
            </a:r>
            <a:br>
              <a:rPr sz="1800"/>
            </a:b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Пифагор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5000760" y="221472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Какие способы доказательств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теоремы Пифагора известны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10"/>
          <p:cNvSpPr/>
          <p:nvPr/>
        </p:nvSpPr>
        <p:spPr>
          <a:xfrm>
            <a:off x="728280" y="400068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Кто такой Пифагор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11"/>
          <p:cNvSpPr/>
          <p:nvPr/>
        </p:nvSpPr>
        <p:spPr>
          <a:xfrm>
            <a:off x="6143760" y="3500280"/>
            <a:ext cx="25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Как применяю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теорему Пифагор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в науке и техник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1214280" y="285840"/>
            <a:ext cx="728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omic Sans MS"/>
              </a:rPr>
              <a:t>охотники за знани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Прямоугольник 3" descr=""/>
          <p:cNvPicPr/>
          <p:nvPr/>
        </p:nvPicPr>
        <p:blipFill>
          <a:blip r:embed="rId1"/>
          <a:stretch/>
        </p:blipFill>
        <p:spPr>
          <a:xfrm>
            <a:off x="2664000" y="1328760"/>
            <a:ext cx="4127400" cy="177480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4" descr=""/>
          <p:cNvPicPr/>
          <p:nvPr/>
        </p:nvPicPr>
        <p:blipFill>
          <a:blip r:embed="rId2"/>
          <a:stretch/>
        </p:blipFill>
        <p:spPr>
          <a:xfrm>
            <a:off x="2766960" y="2803680"/>
            <a:ext cx="4408560" cy="115236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5" descr=""/>
          <p:cNvPicPr/>
          <p:nvPr/>
        </p:nvPicPr>
        <p:blipFill>
          <a:blip r:embed="rId3"/>
          <a:stretch/>
        </p:blipFill>
        <p:spPr>
          <a:xfrm>
            <a:off x="2798640" y="4286160"/>
            <a:ext cx="4187880" cy="1200240"/>
          </a:xfrm>
          <a:prstGeom prst="rect">
            <a:avLst/>
          </a:prstGeom>
          <a:ln w="0">
            <a:noFill/>
          </a:ln>
        </p:spPr>
      </p:pic>
      <p:sp>
        <p:nvSpPr>
          <p:cNvPr id="64" name="Стрелка вниз 6"/>
          <p:cNvSpPr/>
          <p:nvPr/>
        </p:nvSpPr>
        <p:spPr>
          <a:xfrm>
            <a:off x="4357800" y="2357280"/>
            <a:ext cx="714240" cy="85752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Стрелка вниз 7"/>
          <p:cNvSpPr/>
          <p:nvPr/>
        </p:nvSpPr>
        <p:spPr>
          <a:xfrm>
            <a:off x="4429080" y="3857760"/>
            <a:ext cx="714600" cy="8571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Штриховая стрелка вправо 8"/>
          <p:cNvSpPr/>
          <p:nvPr/>
        </p:nvSpPr>
        <p:spPr>
          <a:xfrm rot="5400000">
            <a:off x="4357800" y="642600"/>
            <a:ext cx="642960" cy="1357200"/>
          </a:xfrm>
          <a:custGeom>
            <a:avLst/>
            <a:gdLst>
              <a:gd name="textAreaLeft" fmla="*/ 100440 w 642960"/>
              <a:gd name="textAreaRight" fmla="*/ 482400 w 642960"/>
              <a:gd name="textAreaTop" fmla="*/ 339120 h 1357200"/>
              <a:gd name="textAreaBottom" fmla="*/ 1018080 h 1357200"/>
            </a:gdLst>
            <a:ahLst/>
            <a:rect l="textAreaLeft" t="textAreaTop" r="textAreaRight" b="textAreaBottom"/>
            <a:pathLst>
              <a:path w="642942" h="1357322">
                <a:moveTo>
                  <a:pt x="0" y="339331"/>
                </a:moveTo>
                <a:lnTo>
                  <a:pt x="20092" y="339331"/>
                </a:lnTo>
                <a:lnTo>
                  <a:pt x="20092" y="1017992"/>
                </a:lnTo>
                <a:lnTo>
                  <a:pt x="0" y="1017992"/>
                </a:lnTo>
                <a:close/>
                <a:moveTo>
                  <a:pt x="40184" y="339331"/>
                </a:moveTo>
                <a:lnTo>
                  <a:pt x="80368" y="339331"/>
                </a:lnTo>
                <a:lnTo>
                  <a:pt x="80368" y="1017992"/>
                </a:lnTo>
                <a:lnTo>
                  <a:pt x="40184" y="1017992"/>
                </a:lnTo>
                <a:close/>
                <a:moveTo>
                  <a:pt x="100460" y="339331"/>
                </a:moveTo>
                <a:lnTo>
                  <a:pt x="321471" y="339331"/>
                </a:lnTo>
                <a:lnTo>
                  <a:pt x="321471" y="0"/>
                </a:lnTo>
                <a:lnTo>
                  <a:pt x="642942" y="678661"/>
                </a:lnTo>
                <a:lnTo>
                  <a:pt x="321471" y="1357322"/>
                </a:lnTo>
                <a:lnTo>
                  <a:pt x="321471" y="1017992"/>
                </a:lnTo>
                <a:lnTo>
                  <a:pt x="100460" y="1017992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Вертикальный свиток 11"/>
          <p:cNvSpPr/>
          <p:nvPr/>
        </p:nvSpPr>
        <p:spPr>
          <a:xfrm>
            <a:off x="214200" y="1428840"/>
            <a:ext cx="2643480" cy="4357440"/>
          </a:xfrm>
          <a:prstGeom prst="verticalScroll">
            <a:avLst>
              <a:gd name="adj" fmla="val 12500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2"/>
          <p:cNvSpPr/>
          <p:nvPr/>
        </p:nvSpPr>
        <p:spPr>
          <a:xfrm>
            <a:off x="785880" y="2000160"/>
            <a:ext cx="1643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Calibri"/>
              </a:rPr>
              <a:t>Только немногие знают, как много надо знать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Calibri"/>
              </a:rPr>
              <a:t>чтобы понять, как мало знаеш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Calibri"/>
              </a:rPr>
              <a:t>В.Гейзенбер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-10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-1022" descr=""/>
          <p:cNvPicPr/>
          <p:nvPr/>
        </p:nvPicPr>
        <p:blipFill>
          <a:blip r:embed="rId2"/>
          <a:stretch/>
        </p:blipFill>
        <p:spPr>
          <a:xfrm>
            <a:off x="142920" y="5000760"/>
            <a:ext cx="1343160" cy="171432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2"/>
          <p:cNvSpPr/>
          <p:nvPr/>
        </p:nvSpPr>
        <p:spPr>
          <a:xfrm>
            <a:off x="1000080" y="1000080"/>
            <a:ext cx="7358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1. Почему быки «боятся» Теорему Пифагора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2. Узнать кто такой Пифагор, какова истор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создания теоремы Пифагор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3. Оформить найденный материал в</a:t>
            </a: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в выбранной вами форме с использованием</a:t>
            </a: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информационных технолог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Блок-схема: перфолента 3"/>
          <p:cNvSpPr/>
          <p:nvPr/>
        </p:nvSpPr>
        <p:spPr>
          <a:xfrm>
            <a:off x="2500200" y="71280"/>
            <a:ext cx="4143600" cy="928800"/>
          </a:xfrm>
          <a:prstGeom prst="flowChartPunchedTape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3214800" y="21420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libri"/>
              </a:rPr>
              <a:t>ИСТОР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-10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-1022" descr=""/>
          <p:cNvPicPr/>
          <p:nvPr/>
        </p:nvPicPr>
        <p:blipFill>
          <a:blip r:embed="rId2"/>
          <a:stretch/>
        </p:blipFill>
        <p:spPr>
          <a:xfrm>
            <a:off x="142920" y="5000760"/>
            <a:ext cx="1343160" cy="1714320"/>
          </a:xfrm>
          <a:prstGeom prst="rect">
            <a:avLst/>
          </a:prstGeom>
          <a:ln w="0">
            <a:noFill/>
          </a:ln>
        </p:spPr>
      </p:pic>
      <p:sp>
        <p:nvSpPr>
          <p:cNvPr id="76" name="Блок-схема: перфолента 2"/>
          <p:cNvSpPr/>
          <p:nvPr/>
        </p:nvSpPr>
        <p:spPr>
          <a:xfrm>
            <a:off x="2500200" y="214200"/>
            <a:ext cx="4143600" cy="928800"/>
          </a:xfrm>
          <a:prstGeom prst="flowChartPunchedTape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3214800" y="357120"/>
            <a:ext cx="278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libri"/>
              </a:rPr>
              <a:t>ТЕОРЕТ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785880" y="1143000"/>
            <a:ext cx="8358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1. Почему доказательство теоремы Пифагора называли «ослиным мостом»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2. Найти различные способы доказательства теоремы Пифагор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3. Оформить найденный материал в выбранной вами форме с использованием информационных</a:t>
            </a: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технолог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-10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-1022" descr=""/>
          <p:cNvPicPr/>
          <p:nvPr/>
        </p:nvPicPr>
        <p:blipFill>
          <a:blip r:embed="rId2"/>
          <a:stretch/>
        </p:blipFill>
        <p:spPr>
          <a:xfrm>
            <a:off x="142920" y="5256360"/>
            <a:ext cx="1143000" cy="14587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"/>
          <p:cNvSpPr/>
          <p:nvPr/>
        </p:nvSpPr>
        <p:spPr>
          <a:xfrm>
            <a:off x="357120" y="857160"/>
            <a:ext cx="90010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84807"/>
                </a:solidFill>
                <a:latin typeface="Calibri"/>
              </a:rPr>
              <a:t>1. Как теорема Пифагора помогала людям «измерять» расстояние между космическими кораблями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84807"/>
                </a:solidFill>
                <a:latin typeface="Calibri"/>
              </a:rPr>
              <a:t>2. Может ли строитель обойтись без теоремы Пифагора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84807"/>
                </a:solidFill>
                <a:latin typeface="Calibri"/>
              </a:rPr>
              <a:t>3. Узнать как применяется теорема Пифагора в науке и технике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84807"/>
                </a:solidFill>
                <a:latin typeface="Calibri"/>
              </a:rPr>
              <a:t>4. Оформить найденный материал  в выбранной</a:t>
            </a:r>
            <a:br>
              <a:rPr sz="2600"/>
            </a:br>
            <a:r>
              <a:rPr b="1" lang="ru-RU" sz="2600" spc="-1" strike="noStrike">
                <a:solidFill>
                  <a:srgbClr val="984807"/>
                </a:solidFill>
                <a:latin typeface="Calibri"/>
              </a:rPr>
              <a:t>вами форме с использованием информационных</a:t>
            </a:r>
            <a:br>
              <a:rPr sz="2600"/>
            </a:br>
            <a:r>
              <a:rPr b="1" lang="ru-RU" sz="2600" spc="-1" strike="noStrike">
                <a:solidFill>
                  <a:srgbClr val="984807"/>
                </a:solidFill>
                <a:latin typeface="Calibri"/>
              </a:rPr>
              <a:t>технологи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Блок-схема: перфолента 3"/>
          <p:cNvSpPr/>
          <p:nvPr/>
        </p:nvSpPr>
        <p:spPr>
          <a:xfrm>
            <a:off x="2500200" y="0"/>
            <a:ext cx="4143600" cy="928800"/>
          </a:xfrm>
          <a:prstGeom prst="flowChartPunchedTape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143160" y="77760"/>
            <a:ext cx="278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libri"/>
              </a:rPr>
              <a:t>ПРАКТ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4"/>
          <p:cNvSpPr/>
          <p:nvPr/>
        </p:nvSpPr>
        <p:spPr>
          <a:xfrm>
            <a:off x="4143240" y="52149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Calibri"/>
              </a:rPr>
              <a:t>Успех – вот, что создае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Calibri"/>
              </a:rPr>
              <a:t>великих люд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                              </a:t>
            </a: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Наполеон 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-1021" descr=""/>
          <p:cNvPicPr/>
          <p:nvPr/>
        </p:nvPicPr>
        <p:blipFill>
          <a:blip r:embed="rId1"/>
          <a:stretch/>
        </p:blipFill>
        <p:spPr>
          <a:xfrm>
            <a:off x="3714840" y="2143080"/>
            <a:ext cx="2000160" cy="2540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-1020" descr=""/>
          <p:cNvPicPr/>
          <p:nvPr/>
        </p:nvPicPr>
        <p:blipFill>
          <a:blip r:embed="rId2"/>
          <a:stretch/>
        </p:blipFill>
        <p:spPr>
          <a:xfrm>
            <a:off x="1000080" y="3429000"/>
            <a:ext cx="1755720" cy="2500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-1018" descr=""/>
          <p:cNvPicPr/>
          <p:nvPr/>
        </p:nvPicPr>
        <p:blipFill>
          <a:blip r:embed="rId3"/>
          <a:stretch/>
        </p:blipFill>
        <p:spPr>
          <a:xfrm>
            <a:off x="6215040" y="1000080"/>
            <a:ext cx="2052720" cy="22860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9"/>
          <p:cNvSpPr/>
          <p:nvPr/>
        </p:nvSpPr>
        <p:spPr>
          <a:xfrm>
            <a:off x="428760" y="428760"/>
            <a:ext cx="50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Calibri"/>
              </a:rPr>
              <a:t>При решении задачи плохой план</a:t>
            </a:r>
            <a:br>
              <a:rPr sz="2400"/>
            </a:br>
            <a:r>
              <a:rPr b="1" i="1" lang="ru-RU" sz="2400" spc="-1" strike="noStrike">
                <a:solidFill>
                  <a:srgbClr val="984807"/>
                </a:solidFill>
                <a:latin typeface="Calibri"/>
              </a:rPr>
              <a:t>часто оказывается полезным:</a:t>
            </a:r>
            <a:br>
              <a:rPr sz="2400"/>
            </a:br>
            <a:r>
              <a:rPr b="1" i="1" lang="ru-RU" sz="2400" spc="-1" strike="noStrike">
                <a:solidFill>
                  <a:srgbClr val="984807"/>
                </a:solidFill>
                <a:latin typeface="Calibri"/>
              </a:rPr>
              <a:t>он может вести к лучшему</a:t>
            </a:r>
            <a:br>
              <a:rPr sz="2400"/>
            </a:br>
            <a:r>
              <a:rPr b="1" i="1" lang="ru-RU" sz="2400" spc="-1" strike="noStrike">
                <a:solidFill>
                  <a:srgbClr val="984807"/>
                </a:solidFill>
                <a:latin typeface="Calibri"/>
              </a:rPr>
              <a:t>план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Calibri"/>
              </a:rPr>
              <a:t>                            </a:t>
            </a: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Д. Пой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4:46:09Z</dcterms:created>
  <dc:creator>SamLab.ws</dc:creator>
  <dc:description/>
  <dc:language>en-US</dc:language>
  <cp:lastModifiedBy>SamLab.ws</cp:lastModifiedBy>
  <dcterms:modified xsi:type="dcterms:W3CDTF">2011-04-23T07:34:45Z</dcterms:modified>
  <cp:revision>14</cp:revision>
  <dc:subject/>
  <dc:title>Слайд 1</dc:title>
</cp:coreProperties>
</file>